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23C-7CDC-4E48-8F84-95087ABF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0DB-313D-4553-BA6D-F5314BBE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F16-10E4-4051-B4D0-D58AC340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A1F-23C0-47F3-B77E-B1C00823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76B-118A-4378-A9D4-35542070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938-AE20-4AFF-844F-83641769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F30-4617-4AB8-96E6-F84537C8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684-B70D-48ED-A176-65E4FC6F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B7F-5A5A-4E17-9258-E5457ABA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AD3-3004-4B32-97F1-BAB565AE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D0E-C6F4-400B-988D-3913B1A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AB9-F948-4806-B6FF-A10E0569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0E98-289F-4E0C-8A70-642CE9C4AEAB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12F7-849C-41A7-AE56-F57B07ABEF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690F-26AE-47D0-A5B2-65ABB2B293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plantilla"/>
          <p:cNvPicPr/>
          <p:nvPr/>
        </p:nvPicPr>
        <p:blipFill>
          <a:blip r:embed="rId1"/>
          <a:stretch/>
        </p:blipFill>
        <p:spPr>
          <a:xfrm>
            <a:off x="7920" y="479592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logoconsejo"/>
          <p:cNvPicPr/>
          <p:nvPr/>
        </p:nvPicPr>
        <p:blipFill>
          <a:blip r:embed="rId2"/>
          <a:stretch/>
        </p:blipFill>
        <p:spPr>
          <a:xfrm>
            <a:off x="8080200" y="5877000"/>
            <a:ext cx="919440" cy="884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2"/>
          <p:cNvSpPr/>
          <p:nvPr/>
        </p:nvSpPr>
        <p:spPr>
          <a:xfrm>
            <a:off x="1847520" y="6461280"/>
            <a:ext cx="57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511200" y="1268280"/>
            <a:ext cx="81374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rol de las personas para 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éxito organiz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46120" y="4795920"/>
            <a:ext cx="21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Gustavo V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gosto 29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E3C5-FB41-4B26-9EAF-5C72B71481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plantilla"/>
          <p:cNvPicPr/>
          <p:nvPr/>
        </p:nvPicPr>
        <p:blipFill>
          <a:blip r:embed="rId1"/>
          <a:stretch/>
        </p:blipFill>
        <p:spPr>
          <a:xfrm>
            <a:off x="7920" y="479592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logoconsejo"/>
          <p:cNvPicPr/>
          <p:nvPr/>
        </p:nvPicPr>
        <p:blipFill>
          <a:blip r:embed="rId2"/>
          <a:stretch/>
        </p:blipFill>
        <p:spPr>
          <a:xfrm>
            <a:off x="8080200" y="5877000"/>
            <a:ext cx="919440" cy="884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2"/>
          <p:cNvSpPr/>
          <p:nvPr/>
        </p:nvSpPr>
        <p:spPr>
          <a:xfrm>
            <a:off x="1847520" y="6461280"/>
            <a:ext cx="57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455760" y="1376280"/>
            <a:ext cx="7975440" cy="4645080"/>
            <a:chOff x="455760" y="1376280"/>
            <a:chExt cx="7975440" cy="4645080"/>
          </a:xfrm>
        </p:grpSpPr>
        <p:pic>
          <p:nvPicPr>
            <p:cNvPr id="118" name="Picture 19" descr=""/>
            <p:cNvPicPr/>
            <p:nvPr/>
          </p:nvPicPr>
          <p:blipFill>
            <a:blip r:embed="rId3"/>
            <a:stretch/>
          </p:blipFill>
          <p:spPr>
            <a:xfrm>
              <a:off x="468000" y="1411200"/>
              <a:ext cx="2586960" cy="35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58" descr="http://blog.ourchurch.com/wp-content/uploads/2011/05/church-people-working-together.jpg"/>
            <p:cNvPicPr/>
            <p:nvPr/>
          </p:nvPicPr>
          <p:blipFill>
            <a:blip r:embed="rId4"/>
            <a:stretch/>
          </p:blipFill>
          <p:spPr>
            <a:xfrm>
              <a:off x="3187440" y="1392840"/>
              <a:ext cx="2585520" cy="359676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  <p:pic>
          <p:nvPicPr>
            <p:cNvPr id="120" name="Picture 53" descr=""/>
            <p:cNvPicPr/>
            <p:nvPr/>
          </p:nvPicPr>
          <p:blipFill>
            <a:blip r:embed="rId5"/>
            <a:srcRect l="0" t="0" r="46607" b="0"/>
            <a:stretch/>
          </p:blipFill>
          <p:spPr>
            <a:xfrm>
              <a:off x="5842080" y="1376280"/>
              <a:ext cx="2589120" cy="3613320"/>
            </a:xfrm>
            <a:prstGeom prst="rect">
              <a:avLst/>
            </a:prstGeom>
            <a:ln w="9360">
              <a:solidFill>
                <a:srgbClr val="2d2d8a"/>
              </a:solidFill>
              <a:miter/>
            </a:ln>
          </p:spPr>
        </p:pic>
        <p:sp>
          <p:nvSpPr>
            <p:cNvPr id="121" name="Rectangle 11"/>
            <p:cNvSpPr/>
            <p:nvPr/>
          </p:nvSpPr>
          <p:spPr>
            <a:xfrm>
              <a:off x="455760" y="1392840"/>
              <a:ext cx="2586960" cy="4165920"/>
            </a:xfrm>
            <a:prstGeom prst="rect">
              <a:avLst/>
            </a:prstGeom>
            <a:noFill/>
            <a:ln w="19080">
              <a:solidFill>
                <a:srgbClr val="ac00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3184560" y="1376280"/>
              <a:ext cx="2588760" cy="4182840"/>
            </a:xfrm>
            <a:prstGeom prst="rect">
              <a:avLst/>
            </a:prstGeom>
            <a:noFill/>
            <a:ln w="1908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"/>
            <p:cNvSpPr/>
            <p:nvPr/>
          </p:nvSpPr>
          <p:spPr>
            <a:xfrm>
              <a:off x="572400" y="4123080"/>
              <a:ext cx="2370240" cy="189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ac00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c0098"/>
                  </a:solidFill>
                  <a:latin typeface="Arial"/>
                  <a:ea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c0098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ac0098"/>
                  </a:solidFill>
                  <a:latin typeface="Arial"/>
                  <a:ea typeface="Arial"/>
                </a:rPr>
                <a:t>Learn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c0098"/>
                  </a:solidFill>
                  <a:latin typeface="Arial"/>
                  <a:ea typeface="Arial"/>
                </a:rPr>
                <a:t>What formal or informal learning do I need, if any? (eLearning, workshops, podcasts, books, seminars, conferenc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ac0098"/>
                  </a:solidFill>
                  <a:latin typeface="Arial"/>
                  <a:ea typeface="Arial"/>
                </a:rPr>
                <a:t>Confirm base knowledge is pres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3295440" y="3756600"/>
              <a:ext cx="2367000" cy="2264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  <a:ea typeface="Arial"/>
                </a:rPr>
                <a:t>Learning from Oth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8000"/>
                  </a:solidFill>
                  <a:latin typeface="Arial"/>
                  <a:ea typeface="Arial"/>
                </a:rPr>
                <a:t>Who will support my development? (Manager, Coaches, Mentors, Peers, Networks, Experts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8000"/>
                  </a:solidFill>
                  <a:latin typeface="Arial"/>
                  <a:ea typeface="Arial"/>
                </a:rPr>
                <a:t>Learning through others reinforc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5956560" y="3306600"/>
              <a:ext cx="2367000" cy="2714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d2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a8ca0"/>
                  </a:solidFill>
                  <a:latin typeface="Arial"/>
                </a:rPr>
                <a:t>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a8ca0"/>
                  </a:solidFill>
                  <a:latin typeface="Arial"/>
                </a:rPr>
                <a:t>On the Job Learn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a8ca0"/>
                  </a:solidFill>
                  <a:latin typeface="Arial"/>
                </a:rPr>
                <a:t>How will I activate my development on the job? (Projects, experiences, challenging assignments, problem solving, reflection, ongoing coaching and feedback)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3a8ca0"/>
                  </a:solidFill>
                  <a:latin typeface="Arial"/>
                </a:rPr>
                <a:t>Development on-the-job (OJT) propels mastery of skil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"/>
          <p:cNvSpPr/>
          <p:nvPr/>
        </p:nvSpPr>
        <p:spPr>
          <a:xfrm>
            <a:off x="384120" y="44280"/>
            <a:ext cx="74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El desarrollo como Proposición de Val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68360" y="663480"/>
            <a:ext cx="903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he 10:20:70  Learning Model to Accelerate Performance</a:t>
            </a:r>
            <a:br>
              <a:rPr sz="28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 learning options will you choose to achieve your 1 or 2 development goals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EFBE-62FB-45AE-9C6E-089274520A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619280" y="2276640"/>
            <a:ext cx="590544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decconsultores.files.wordpress.com/2013/05/empleados.jpg"/>
          <p:cNvPicPr/>
          <p:nvPr/>
        </p:nvPicPr>
        <p:blipFill>
          <a:blip r:embed="rId1"/>
          <a:stretch/>
        </p:blipFill>
        <p:spPr>
          <a:xfrm>
            <a:off x="5005440" y="1627200"/>
            <a:ext cx="3998880" cy="3084480"/>
          </a:xfrm>
          <a:prstGeom prst="rect">
            <a:avLst/>
          </a:prstGeom>
          <a:ln w="0">
            <a:noFill/>
          </a:ln>
        </p:spPr>
      </p:pic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8D81-6D45-468F-8828-E3924ADC73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plantilla"/>
          <p:cNvPicPr/>
          <p:nvPr/>
        </p:nvPicPr>
        <p:blipFill>
          <a:blip r:embed="rId2"/>
          <a:stretch/>
        </p:blipFill>
        <p:spPr>
          <a:xfrm>
            <a:off x="7920" y="479592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logoconsejo"/>
          <p:cNvPicPr/>
          <p:nvPr/>
        </p:nvPicPr>
        <p:blipFill>
          <a:blip r:embed="rId3"/>
          <a:stretch/>
        </p:blipFill>
        <p:spPr>
          <a:xfrm>
            <a:off x="8080200" y="5877000"/>
            <a:ext cx="919440" cy="884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847520" y="6461280"/>
            <a:ext cx="57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250920" y="9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Cambios en las tendencias sociales plantean nuevos desafíos para gestionar a las persona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611280" y="1353960"/>
            <a:ext cx="547344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buClr>
                <a:srgbClr val="0b5e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b5ed7"/>
                </a:solidFill>
                <a:latin typeface="Arial"/>
                <a:ea typeface="Arial"/>
              </a:rPr>
              <a:t>Conectividad y Comun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b5e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b5ed7"/>
                </a:solidFill>
                <a:latin typeface="Arial"/>
                <a:ea typeface="Arial"/>
              </a:rPr>
              <a:t>Transformación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b5e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b5ed7"/>
                </a:solidFill>
                <a:latin typeface="Arial"/>
                <a:ea typeface="Arial"/>
              </a:rPr>
              <a:t>Economías cre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b5e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b5ed7"/>
                </a:solidFill>
                <a:latin typeface="Arial"/>
                <a:ea typeface="Arial"/>
              </a:rPr>
              <a:t>Nuevas generaciones con una visión diferente hacia el trabaj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50920" y="3492360"/>
            <a:ext cx="525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traer, motivar, desarrollar, retener, proteger a las personas, es diferente a como lo hacíamos en el pas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905040" y="503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b5ed7"/>
                </a:solidFill>
                <a:latin typeface="Arial"/>
                <a:ea typeface="Arial"/>
              </a:rPr>
              <a:t>Flexibilidad y adaptación, dos competencias necesarias para generar pasión y compromiso en un contexto di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E501-DF8E-48E6-87B7-A7D485FFDF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plantilla"/>
          <p:cNvPicPr/>
          <p:nvPr/>
        </p:nvPicPr>
        <p:blipFill>
          <a:blip r:embed="rId1"/>
          <a:stretch/>
        </p:blipFill>
        <p:spPr>
          <a:xfrm>
            <a:off x="7920" y="479592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logoconsejo"/>
          <p:cNvPicPr/>
          <p:nvPr/>
        </p:nvPicPr>
        <p:blipFill>
          <a:blip r:embed="rId2"/>
          <a:stretch/>
        </p:blipFill>
        <p:spPr>
          <a:xfrm>
            <a:off x="8080200" y="5877000"/>
            <a:ext cx="919440" cy="884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1847520" y="6461280"/>
            <a:ext cx="57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896760" y="549360"/>
            <a:ext cx="7172640" cy="5327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-216000" y="0"/>
            <a:ext cx="946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000000"/>
                </a:solidFill>
                <a:latin typeface="Arial"/>
              </a:rPr>
              <a:t>Convergen generaciones con distinta visión del trabajo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4448-3F67-49DE-A481-07A7F90636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lantilla"/>
          <p:cNvPicPr/>
          <p:nvPr/>
        </p:nvPicPr>
        <p:blipFill>
          <a:blip r:embed="rId1"/>
          <a:stretch/>
        </p:blipFill>
        <p:spPr>
          <a:xfrm>
            <a:off x="7920" y="479592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logoconsejo"/>
          <p:cNvPicPr/>
          <p:nvPr/>
        </p:nvPicPr>
        <p:blipFill>
          <a:blip r:embed="rId2"/>
          <a:stretch/>
        </p:blipFill>
        <p:spPr>
          <a:xfrm>
            <a:off x="8080200" y="5877000"/>
            <a:ext cx="919440" cy="884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1847520" y="6461280"/>
            <a:ext cx="57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293760" y="27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¿Como se logra la transformació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4360" y="98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éxito no radica en poseer los mejores recursos huma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no en gestionarlos y desarrollarlos mejor que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14480" y="2448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Lideraz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R como soporte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Tal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Gestión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www.datahousecompany.com/articulos-entrepreneurs.jpg"/>
          <p:cNvPicPr/>
          <p:nvPr/>
        </p:nvPicPr>
        <p:blipFill>
          <a:blip r:embed="rId3"/>
          <a:stretch/>
        </p:blipFill>
        <p:spPr>
          <a:xfrm>
            <a:off x="4608360" y="2419200"/>
            <a:ext cx="43833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5831-B1C7-4ECC-BA1D-7585497D05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plantilla"/>
          <p:cNvPicPr/>
          <p:nvPr/>
        </p:nvPicPr>
        <p:blipFill>
          <a:blip r:embed="rId1"/>
          <a:stretch/>
        </p:blipFill>
        <p:spPr>
          <a:xfrm>
            <a:off x="7920" y="479592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logoconsejo"/>
          <p:cNvPicPr/>
          <p:nvPr/>
        </p:nvPicPr>
        <p:blipFill>
          <a:blip r:embed="rId2"/>
          <a:stretch/>
        </p:blipFill>
        <p:spPr>
          <a:xfrm>
            <a:off x="8080200" y="5877000"/>
            <a:ext cx="919440" cy="884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1847520" y="6461280"/>
            <a:ext cx="57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793800" y="907920"/>
            <a:ext cx="7594560" cy="4897440"/>
            <a:chOff x="793800" y="907920"/>
            <a:chExt cx="7594560" cy="4897440"/>
          </a:xfrm>
        </p:grpSpPr>
        <p:pic>
          <p:nvPicPr>
            <p:cNvPr id="75" name="Picture 13" descr="1.jpg"/>
            <p:cNvPicPr/>
            <p:nvPr/>
          </p:nvPicPr>
          <p:blipFill>
            <a:blip r:embed="rId3"/>
            <a:stretch/>
          </p:blipFill>
          <p:spPr>
            <a:xfrm>
              <a:off x="1100880" y="1355040"/>
              <a:ext cx="6708960" cy="286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14"/>
            <p:cNvSpPr/>
            <p:nvPr/>
          </p:nvSpPr>
          <p:spPr>
            <a:xfrm>
              <a:off x="1018080" y="3976200"/>
              <a:ext cx="297288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  <a:ea typeface="MS Gothic"/>
                </a:rPr>
                <a:t>We will be the bes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  <a:ea typeface="MS Gothic"/>
                </a:rPr>
                <a:t>place to work for peopl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  <a:ea typeface="MS Gothic"/>
                </a:rPr>
                <a:t>who share our passion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  <a:ea typeface="MS 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5"/>
            <p:cNvSpPr/>
            <p:nvPr/>
          </p:nvSpPr>
          <p:spPr>
            <a:xfrm>
              <a:off x="5188320" y="4074480"/>
              <a:ext cx="3200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  <a:ea typeface="MS Gothic"/>
                </a:rPr>
                <a:t>Together we will deliver superior value for our customers and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16" descr="improving.jpg"/>
            <p:cNvPicPr/>
            <p:nvPr/>
          </p:nvPicPr>
          <p:blipFill>
            <a:blip r:embed="rId4"/>
            <a:srcRect l="0" t="0" r="0" b="88"/>
            <a:stretch/>
          </p:blipFill>
          <p:spPr>
            <a:xfrm>
              <a:off x="1155960" y="5250960"/>
              <a:ext cx="6707520" cy="5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itle 10"/>
            <p:cNvSpPr/>
            <p:nvPr/>
          </p:nvSpPr>
          <p:spPr>
            <a:xfrm>
              <a:off x="1166760" y="907920"/>
              <a:ext cx="6789960" cy="11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At Philips we strive to make the world healthier and more sustainable through inno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1"/>
            <p:cNvSpPr/>
            <p:nvPr/>
          </p:nvSpPr>
          <p:spPr>
            <a:xfrm>
              <a:off x="793800" y="3717720"/>
              <a:ext cx="3327480" cy="1533600"/>
            </a:xfrm>
            <a:prstGeom prst="ellipse">
              <a:avLst/>
            </a:prstGeom>
            <a:noFill/>
            <a:ln w="2556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1"/>
          <p:cNvSpPr/>
          <p:nvPr/>
        </p:nvSpPr>
        <p:spPr>
          <a:xfrm>
            <a:off x="108000" y="18900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En Philips las Personas integran la 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D64C-0546-4717-8561-88BB1881B9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plantilla"/>
          <p:cNvPicPr/>
          <p:nvPr/>
        </p:nvPicPr>
        <p:blipFill>
          <a:blip r:embed="rId1"/>
          <a:stretch/>
        </p:blipFill>
        <p:spPr>
          <a:xfrm>
            <a:off x="7920" y="479592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logoconsejo"/>
          <p:cNvPicPr/>
          <p:nvPr/>
        </p:nvPicPr>
        <p:blipFill>
          <a:blip r:embed="rId2"/>
          <a:stretch/>
        </p:blipFill>
        <p:spPr>
          <a:xfrm>
            <a:off x="8080200" y="5877000"/>
            <a:ext cx="919440" cy="884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2"/>
          <p:cNvSpPr/>
          <p:nvPr/>
        </p:nvSpPr>
        <p:spPr>
          <a:xfrm>
            <a:off x="1847520" y="6461280"/>
            <a:ext cx="57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24000" y="15840"/>
            <a:ext cx="80643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Eng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b5ed7"/>
                </a:solidFill>
                <a:latin typeface="Arial"/>
                <a:ea typeface="Arial"/>
              </a:rPr>
              <a:t>La clave para desarrollar una organización de alta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20880" y="2997360"/>
          <a:ext cx="6642000" cy="1049040"/>
        </p:xfrm>
        <a:graphic>
          <a:graphicData uri="http://schemas.openxmlformats.org/drawingml/2006/table">
            <a:tbl>
              <a:tblPr/>
              <a:tblGrid>
                <a:gridCol w="1879560"/>
                <a:gridCol w="952560"/>
                <a:gridCol w="952200"/>
                <a:gridCol w="952560"/>
                <a:gridCol w="952560"/>
                <a:gridCol w="952560"/>
              </a:tblGrid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52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agement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352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Place to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  <p:sp>
        <p:nvSpPr>
          <p:cNvPr id="88" name="Rectangle 29"/>
          <p:cNvSpPr/>
          <p:nvPr/>
        </p:nvSpPr>
        <p:spPr>
          <a:xfrm>
            <a:off x="6156360" y="4653000"/>
            <a:ext cx="2773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Arial"/>
              </a:rPr>
              <a:t>Great Place to 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"/>
          <p:cNvGrpSpPr/>
          <p:nvPr/>
        </p:nvGrpSpPr>
        <p:grpSpPr>
          <a:xfrm>
            <a:off x="7093080" y="4941720"/>
            <a:ext cx="934560" cy="976320"/>
            <a:chOff x="7093080" y="4941720"/>
            <a:chExt cx="934560" cy="976320"/>
          </a:xfrm>
        </p:grpSpPr>
        <p:sp>
          <p:nvSpPr>
            <p:cNvPr id="90" name="Rectangle 8"/>
            <p:cNvSpPr/>
            <p:nvPr/>
          </p:nvSpPr>
          <p:spPr>
            <a:xfrm>
              <a:off x="7093080" y="4941720"/>
              <a:ext cx="934560" cy="9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spcBef>
                  <a:spcPts val="4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13" descr="gptw_argentina_300"/>
            <p:cNvPicPr/>
            <p:nvPr/>
          </p:nvPicPr>
          <p:blipFill>
            <a:blip r:embed="rId3"/>
            <a:stretch/>
          </p:blipFill>
          <p:spPr>
            <a:xfrm>
              <a:off x="7184880" y="5029560"/>
              <a:ext cx="75636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5"/>
          <p:cNvSpPr/>
          <p:nvPr/>
        </p:nvSpPr>
        <p:spPr>
          <a:xfrm>
            <a:off x="666720" y="1484280"/>
            <a:ext cx="703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hilips Argentina, un caso de éxito donde se logro una transformación en el compromiso de los empleados con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826920" y="5013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b5ed7"/>
                </a:solidFill>
                <a:latin typeface="Arial"/>
                <a:ea typeface="Arial"/>
              </a:rPr>
              <a:t>Partiendo de un bajo nivel de engagement, se logró revertir al cabo de 5 años, alcanzando la 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940360" y="52293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70c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AC94-09CE-441D-8AAC-A40564E0C6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plantilla"/>
          <p:cNvPicPr/>
          <p:nvPr/>
        </p:nvPicPr>
        <p:blipFill>
          <a:blip r:embed="rId1"/>
          <a:stretch/>
        </p:blipFill>
        <p:spPr>
          <a:xfrm>
            <a:off x="7920" y="479592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ogoconsejo"/>
          <p:cNvPicPr/>
          <p:nvPr/>
        </p:nvPicPr>
        <p:blipFill>
          <a:blip r:embed="rId2"/>
          <a:stretch/>
        </p:blipFill>
        <p:spPr>
          <a:xfrm>
            <a:off x="8080200" y="5877000"/>
            <a:ext cx="919440" cy="884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1847520" y="6461280"/>
            <a:ext cx="57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Diagram 5" descr=""/>
          <p:cNvPicPr/>
          <p:nvPr/>
        </p:nvPicPr>
        <p:blipFill>
          <a:blip r:embed="rId3"/>
          <a:stretch/>
        </p:blipFill>
        <p:spPr>
          <a:xfrm>
            <a:off x="249120" y="907920"/>
            <a:ext cx="8693280" cy="568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324000" y="115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¿Cuáles fueron los pilares del camb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265A-6BAE-413F-A401-C597098E86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plantilla"/>
          <p:cNvPicPr/>
          <p:nvPr/>
        </p:nvPicPr>
        <p:blipFill>
          <a:blip r:embed="rId1"/>
          <a:stretch/>
        </p:blipFill>
        <p:spPr>
          <a:xfrm>
            <a:off x="7920" y="479592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logoconsejo"/>
          <p:cNvPicPr/>
          <p:nvPr/>
        </p:nvPicPr>
        <p:blipFill>
          <a:blip r:embed="rId2"/>
          <a:stretch/>
        </p:blipFill>
        <p:spPr>
          <a:xfrm>
            <a:off x="8080200" y="5877000"/>
            <a:ext cx="919440" cy="884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1847520" y="6461280"/>
            <a:ext cx="57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85920" y="1066680"/>
            <a:ext cx="8002440" cy="4959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90360" y="189000"/>
            <a:ext cx="9061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s líderes ayudan a los empleados a ser exitosos..</a:t>
            </a:r>
            <a:br>
              <a:rPr sz="2800"/>
            </a:br>
            <a:r>
              <a:rPr b="0" i="1" lang="en-US" sz="1800" spc="-1" strike="noStrike">
                <a:solidFill>
                  <a:srgbClr val="0b5ed7"/>
                </a:solidFill>
                <a:latin typeface="Arial"/>
                <a:ea typeface="Arial"/>
              </a:rPr>
              <a:t>Apply to all leaders – anyone can become a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C28F-6EF5-47AE-AC0C-C51E3E2618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plantilla"/>
          <p:cNvPicPr/>
          <p:nvPr/>
        </p:nvPicPr>
        <p:blipFill>
          <a:blip r:embed="rId1"/>
          <a:stretch/>
        </p:blipFill>
        <p:spPr>
          <a:xfrm>
            <a:off x="7920" y="479592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logoconsejo"/>
          <p:cNvPicPr/>
          <p:nvPr/>
        </p:nvPicPr>
        <p:blipFill>
          <a:blip r:embed="rId2"/>
          <a:stretch/>
        </p:blipFill>
        <p:spPr>
          <a:xfrm>
            <a:off x="8080200" y="5877000"/>
            <a:ext cx="919440" cy="884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2"/>
          <p:cNvSpPr/>
          <p:nvPr/>
        </p:nvSpPr>
        <p:spPr>
          <a:xfrm>
            <a:off x="1847520" y="6461280"/>
            <a:ext cx="57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255600" y="241200"/>
            <a:ext cx="86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La Propuesta de Valor a los empleados en Phi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1400040" y="892080"/>
            <a:ext cx="749304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SALORD, YAMILA</cp:lastModifiedBy>
  <dcterms:modified xsi:type="dcterms:W3CDTF">2013-08-26T18:27:34Z</dcterms:modified>
  <cp:revision>69</cp:revision>
  <dc:subject/>
  <dc:title>Diapositiva 1</dc:title>
</cp:coreProperties>
</file>